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A398-682A-4592-908A-92259343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28E-9555-42DD-88C7-C48B979D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7C2-A391-447F-B9E3-CC0ED4B0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FE16-32A3-43C6-836F-88154813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8C0D-3F69-43DF-987B-DD27D461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231-A344-4654-9AB9-32285104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7B6-9933-43A7-8B2A-331B4877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91D-45CC-4109-8211-4B2EFE80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6B56-1B2A-4A66-B6B4-3858CD56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58E7-FBEA-49B1-84BA-5BC908DD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578-4EBC-4075-8EEC-6A5038ED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9B0-E879-4CB9-AAA4-6D60F534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0667-CD11-4B02-9DA1-E860B03F7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file:///tmp/home/.config/libreoffice/4/user/gallery/j0214098.wav" TargetMode="External"/><Relationship Id="rId4" Type="http://schemas.microsoft.com/office/2007/relationships/media" Target="file:///tmp/home/.config/libreoffice/4/user/gallery/j0214098.wav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rezi.com/kinyzw1dhvl8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325440"/>
            <a:ext cx="7543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80960"/>
            <a:ext cx="91440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01920" y="0"/>
            <a:ext cx="614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vember 12, 19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Pages 1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522000">
            <a:off x="4266720" y="11430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963600">
            <a:off x="761760" y="2438280"/>
            <a:ext cx="1743120" cy="2256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66880" y="327672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questions 1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38188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8487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696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78487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883908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7467480" y="6172200"/>
            <a:ext cx="1676520" cy="685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4400" y="52578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ww.readpages1-10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799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542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08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908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4745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9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6629400" cy="6215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352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09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545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3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76320"/>
            <a:ext cx="67053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3:41:43Z</dcterms:created>
  <dc:creator>Checkout</dc:creator>
  <dc:description/>
  <dc:language>en-US</dc:language>
  <cp:lastModifiedBy>MignardiD</cp:lastModifiedBy>
  <dcterms:modified xsi:type="dcterms:W3CDTF">2010-04-25T19:21:21Z</dcterms:modified>
  <cp:revision>8</cp:revision>
  <dc:subject/>
  <dc:title>Slide 1</dc:title>
</cp:coreProperties>
</file>